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8420-A12F-4095-9023-C7C3A0188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3E11-8E17-4F07-B275-CB6D1315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224B-6269-4F26-8AD5-3ECE0EF0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0126-B3E3-4E0C-9B2C-09C4CB82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3777-32B1-491B-B570-3EAF40BE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D006-5E6C-4CB8-8F82-10F87B07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295B-4D2F-4AA2-80A3-481F8E18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8EA2-34F2-461D-B785-B517C56A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1623-4C20-46B9-A1AA-CF3E8C5A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E8A4-4069-4777-8948-7CE0F306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E026-EF18-4291-B32A-A7744479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3D16-04ED-4C92-BEF1-B5391ABD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078F-AA6A-40D6-BA63-1620DD2F9F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6178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ELLCROFT  MILLENNIUM                  GLASGOW  MASONIC                            RUTHERGLEN  &amp;  DISTRICT           CLYDE  CART  TOURI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430524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9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Clyde Cart Tourists"/>
          <p:cNvPicPr/>
          <p:nvPr/>
        </p:nvPicPr>
        <p:blipFill>
          <a:blip r:embed="rId1"/>
          <a:stretch/>
        </p:blipFill>
        <p:spPr>
          <a:xfrm>
            <a:off x="5600880" y="47628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Rutherglen Assoc 50th.JPG"/>
          <p:cNvPicPr/>
          <p:nvPr/>
        </p:nvPicPr>
        <p:blipFill>
          <a:blip r:embed="rId2"/>
          <a:stretch/>
        </p:blipFill>
        <p:spPr>
          <a:xfrm>
            <a:off x="3944880" y="260280"/>
            <a:ext cx="1243080" cy="1390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Glasgow Masonic.JPG"/>
          <p:cNvPicPr/>
          <p:nvPr/>
        </p:nvPicPr>
        <p:blipFill>
          <a:blip r:embed="rId3"/>
          <a:stretch/>
        </p:blipFill>
        <p:spPr>
          <a:xfrm>
            <a:off x="2000160" y="404640"/>
            <a:ext cx="1243080" cy="1283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Wellcroft Millennium1.JPG"/>
          <p:cNvPicPr/>
          <p:nvPr/>
        </p:nvPicPr>
        <p:blipFill>
          <a:blip r:embed="rId4"/>
          <a:stretch/>
        </p:blipFill>
        <p:spPr>
          <a:xfrm>
            <a:off x="344520" y="333360"/>
            <a:ext cx="106056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19:57:43Z</dcterms:created>
  <dc:creator>HP authorized customer</dc:creator>
  <dc:description/>
  <dc:language>en-US</dc:language>
  <cp:lastModifiedBy>John</cp:lastModifiedBy>
  <dcterms:modified xsi:type="dcterms:W3CDTF">2011-11-16T21:38:18Z</dcterms:modified>
  <cp:revision>7</cp:revision>
  <dc:subject/>
  <dc:title>Slide 1</dc:title>
</cp:coreProperties>
</file>